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3DD-1C75-494F-960D-EA9D017D5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C9A-7270-4F6D-B5E3-E86B14EF7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99D9-0DC7-4C93-A0AD-620E57553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AE8-D5EB-447A-B805-D39DF8ACD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01A-AF37-4058-869F-8A4D899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FCB-2BB8-4F44-A690-2A50FEB7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19C-5A49-4DA9-B557-669EE076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E21-53F6-4A0F-B0AA-AE47DAF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213-A9B0-496D-BE08-EFC769C1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16F-CFDC-4887-AB44-0746285A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8B6-051E-483C-9915-DD24D3D0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09A-32D7-454A-AD99-0F0CAD1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0F6-44BE-4AE7-9FAE-35A83DA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6B1-BA45-41FA-BD53-DECB772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E0C-00CD-4EC8-BBB5-38BFFBB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9DB-C34F-49DE-9CB4-5D086ED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3EF-60C7-47E3-B014-45F65290B10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ой университет -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E9DE-5469-47A9-B34F-765CC78C72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" Target="slide6.xml"/><Relationship Id="rId11" Type="http://schemas.openxmlformats.org/officeDocument/2006/relationships/image" Target="../media/image32.gif"/><Relationship Id="rId12" Type="http://schemas.openxmlformats.org/officeDocument/2006/relationships/slide" Target="slide7.xml"/><Relationship Id="rId13" Type="http://schemas.openxmlformats.org/officeDocument/2006/relationships/image" Target="../media/image32.gif"/><Relationship Id="rId14" Type="http://schemas.openxmlformats.org/officeDocument/2006/relationships/slide" Target="slide8.xml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2.gif"/><Relationship Id="rId18" Type="http://schemas.openxmlformats.org/officeDocument/2006/relationships/image" Target="../media/image32.gif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39.png"/><Relationship Id="rId28" Type="http://schemas.openxmlformats.org/officeDocument/2006/relationships/image" Target="../media/image41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0.png"/><Relationship Id="rId32" Type="http://schemas.openxmlformats.org/officeDocument/2006/relationships/image" Target="../media/image22.png"/><Relationship Id="rId33" Type="http://schemas.openxmlformats.org/officeDocument/2006/relationships/image" Target="../media/image42.png"/><Relationship Id="rId34" Type="http://schemas.openxmlformats.org/officeDocument/2006/relationships/image" Target="../media/image20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20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2073240" y="1646280"/>
            <a:ext cx="4857840" cy="920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4211640" y="2712960"/>
            <a:ext cx="628560" cy="925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2286000" y="3932280"/>
            <a:ext cx="4846680" cy="920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3071880" y="4929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ривель М.А.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БОУ г. Иркутска СОШ № 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1" descr=""/>
          <p:cNvPicPr/>
          <p:nvPr/>
        </p:nvPicPr>
        <p:blipFill>
          <a:blip r:embed="rId1"/>
          <a:stretch/>
        </p:blipFill>
        <p:spPr>
          <a:xfrm>
            <a:off x="1285920" y="1073160"/>
            <a:ext cx="3133800" cy="132228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2" descr=""/>
          <p:cNvPicPr/>
          <p:nvPr/>
        </p:nvPicPr>
        <p:blipFill>
          <a:blip r:embed="rId2"/>
          <a:stretch/>
        </p:blipFill>
        <p:spPr>
          <a:xfrm>
            <a:off x="1212840" y="2212920"/>
            <a:ext cx="3608280" cy="132228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3" descr=""/>
          <p:cNvPicPr/>
          <p:nvPr/>
        </p:nvPicPr>
        <p:blipFill>
          <a:blip r:embed="rId3"/>
          <a:stretch/>
        </p:blipFill>
        <p:spPr>
          <a:xfrm>
            <a:off x="1359000" y="3432240"/>
            <a:ext cx="3030480" cy="132228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4" descr=""/>
          <p:cNvPicPr/>
          <p:nvPr/>
        </p:nvPicPr>
        <p:blipFill>
          <a:blip r:embed="rId4"/>
          <a:stretch/>
        </p:blipFill>
        <p:spPr>
          <a:xfrm>
            <a:off x="1427040" y="4645080"/>
            <a:ext cx="3065760" cy="132228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5" descr=""/>
          <p:cNvPicPr/>
          <p:nvPr/>
        </p:nvPicPr>
        <p:blipFill>
          <a:blip r:embed="rId5"/>
          <a:stretch/>
        </p:blipFill>
        <p:spPr>
          <a:xfrm>
            <a:off x="4784760" y="3071880"/>
            <a:ext cx="39942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1139760" y="1359000"/>
            <a:ext cx="3724200" cy="10126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" descr=""/>
          <p:cNvPicPr/>
          <p:nvPr/>
        </p:nvPicPr>
        <p:blipFill>
          <a:blip r:embed="rId2"/>
          <a:stretch/>
        </p:blipFill>
        <p:spPr>
          <a:xfrm>
            <a:off x="1139760" y="2498760"/>
            <a:ext cx="2865600" cy="10191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3" descr=""/>
          <p:cNvPicPr/>
          <p:nvPr/>
        </p:nvPicPr>
        <p:blipFill>
          <a:blip r:embed="rId3"/>
          <a:stretch/>
        </p:blipFill>
        <p:spPr>
          <a:xfrm>
            <a:off x="1359000" y="3645000"/>
            <a:ext cx="1701720" cy="10126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4"/>
          <a:stretch/>
        </p:blipFill>
        <p:spPr>
          <a:xfrm>
            <a:off x="1427040" y="4645080"/>
            <a:ext cx="148140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5"/>
          <a:stretch/>
        </p:blipFill>
        <p:spPr>
          <a:xfrm>
            <a:off x="4784760" y="2925720"/>
            <a:ext cx="32367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1" descr=""/>
          <p:cNvPicPr/>
          <p:nvPr/>
        </p:nvPicPr>
        <p:blipFill>
          <a:blip r:embed="rId1"/>
          <a:stretch/>
        </p:blipFill>
        <p:spPr>
          <a:xfrm>
            <a:off x="1359000" y="1359000"/>
            <a:ext cx="2676600" cy="10126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" descr=""/>
          <p:cNvPicPr/>
          <p:nvPr/>
        </p:nvPicPr>
        <p:blipFill>
          <a:blip r:embed="rId2"/>
          <a:stretch/>
        </p:blipFill>
        <p:spPr>
          <a:xfrm>
            <a:off x="1427040" y="2425680"/>
            <a:ext cx="2419560" cy="10191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" descr=""/>
          <p:cNvPicPr/>
          <p:nvPr/>
        </p:nvPicPr>
        <p:blipFill>
          <a:blip r:embed="rId3"/>
          <a:stretch/>
        </p:blipFill>
        <p:spPr>
          <a:xfrm>
            <a:off x="1285920" y="4711680"/>
            <a:ext cx="3225600" cy="10191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4" descr=""/>
          <p:cNvPicPr/>
          <p:nvPr/>
        </p:nvPicPr>
        <p:blipFill>
          <a:blip r:embed="rId4"/>
          <a:stretch/>
        </p:blipFill>
        <p:spPr>
          <a:xfrm>
            <a:off x="1359000" y="3571920"/>
            <a:ext cx="2365200" cy="10191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5"/>
          <a:stretch/>
        </p:blipFill>
        <p:spPr>
          <a:xfrm>
            <a:off x="4784760" y="2925720"/>
            <a:ext cx="3676680" cy="113364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домой 6"/>
          <p:cNvSpPr/>
          <p:nvPr/>
        </p:nvSpPr>
        <p:spPr>
          <a:xfrm>
            <a:off x="7858080" y="600084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15431" y="3837"/>
                </a:moveTo>
                <a:lnTo>
                  <a:pt x="18007" y="6448"/>
                </a:lnTo>
                <a:lnTo>
                  <a:pt x="18007" y="4707"/>
                </a:lnTo>
                <a:lnTo>
                  <a:pt x="19783" y="4707"/>
                </a:lnTo>
                <a:lnTo>
                  <a:pt x="19783" y="8224"/>
                </a:lnTo>
                <a:lnTo>
                  <a:pt x="22394" y="10800"/>
                </a:lnTo>
                <a:lnTo>
                  <a:pt x="20740" y="10800"/>
                </a:lnTo>
                <a:lnTo>
                  <a:pt x="20740" y="17989"/>
                </a:lnTo>
                <a:lnTo>
                  <a:pt x="10122" y="17989"/>
                </a:lnTo>
                <a:lnTo>
                  <a:pt x="10122" y="10800"/>
                </a:lnTo>
                <a:lnTo>
                  <a:pt x="8468" y="10800"/>
                </a:lnTo>
                <a:close/>
              </a:path>
              <a:path fill="darkenLess" w="30862" h="21600">
                <a:moveTo>
                  <a:pt x="18007" y="6448"/>
                </a:moveTo>
                <a:lnTo>
                  <a:pt x="18007" y="4707"/>
                </a:lnTo>
                <a:lnTo>
                  <a:pt x="19783" y="4707"/>
                </a:lnTo>
                <a:lnTo>
                  <a:pt x="19783" y="8224"/>
                </a:lnTo>
                <a:close/>
              </a:path>
              <a:path fill="darkenLess" w="30862" h="21600">
                <a:moveTo>
                  <a:pt x="14508" y="14299"/>
                </a:moveTo>
                <a:lnTo>
                  <a:pt x="16353" y="14299"/>
                </a:lnTo>
                <a:lnTo>
                  <a:pt x="16353" y="17989"/>
                </a:lnTo>
                <a:lnTo>
                  <a:pt x="20740" y="17989"/>
                </a:lnTo>
                <a:lnTo>
                  <a:pt x="20740" y="10800"/>
                </a:lnTo>
                <a:lnTo>
                  <a:pt x="10122" y="10800"/>
                </a:lnTo>
                <a:lnTo>
                  <a:pt x="10122" y="17989"/>
                </a:lnTo>
                <a:lnTo>
                  <a:pt x="1450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1242000" y="1714680"/>
            <a:ext cx="757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На) старом дереве аис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или гнезд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5000760" y="1928880"/>
            <a:ext cx="285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714840" y="2643120"/>
            <a:ext cx="2858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омой 5"/>
          <p:cNvSpPr/>
          <p:nvPr/>
        </p:nvSpPr>
        <p:spPr>
          <a:xfrm>
            <a:off x="8001000" y="58579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1"/>
          <a:stretch/>
        </p:blipFill>
        <p:spPr>
          <a:xfrm>
            <a:off x="5643720" y="2643120"/>
            <a:ext cx="17859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28"/>
          <p:cNvGrpSpPr/>
          <p:nvPr/>
        </p:nvGrpSpPr>
        <p:grpSpPr>
          <a:xfrm>
            <a:off x="1857240" y="2357280"/>
            <a:ext cx="1285920" cy="715680"/>
            <a:chOff x="1857240" y="2357280"/>
            <a:chExt cx="1285920" cy="715680"/>
          </a:xfrm>
        </p:grpSpPr>
        <p:grpSp>
          <p:nvGrpSpPr>
            <p:cNvPr id="53" name="Группа 27"/>
            <p:cNvGrpSpPr/>
            <p:nvPr/>
          </p:nvGrpSpPr>
          <p:grpSpPr>
            <a:xfrm>
              <a:off x="1857240" y="2357280"/>
              <a:ext cx="1285920" cy="428760"/>
              <a:chOff x="1857240" y="2357280"/>
              <a:chExt cx="1285920" cy="428760"/>
            </a:xfrm>
          </p:grpSpPr>
          <p:grpSp>
            <p:nvGrpSpPr>
              <p:cNvPr id="54" name="Группа 26"/>
              <p:cNvGrpSpPr/>
              <p:nvPr/>
            </p:nvGrpSpPr>
            <p:grpSpPr>
              <a:xfrm>
                <a:off x="1857240" y="2357280"/>
                <a:ext cx="857160" cy="428760"/>
                <a:chOff x="1857240" y="2357280"/>
                <a:chExt cx="857160" cy="428760"/>
              </a:xfrm>
            </p:grpSpPr>
            <p:sp>
              <p:nvSpPr>
                <p:cNvPr id="55" name="Прямоугольник 12"/>
                <p:cNvSpPr/>
                <p:nvPr/>
              </p:nvSpPr>
              <p:spPr>
                <a:xfrm>
                  <a:off x="1857240" y="2357280"/>
                  <a:ext cx="42876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Прямоугольник 13"/>
                <p:cNvSpPr/>
                <p:nvPr/>
              </p:nvSpPr>
              <p:spPr>
                <a:xfrm>
                  <a:off x="2286000" y="2357280"/>
                  <a:ext cx="42840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Прямоугольник 14"/>
              <p:cNvSpPr/>
              <p:nvPr/>
            </p:nvSpPr>
            <p:spPr>
              <a:xfrm>
                <a:off x="2714400" y="2357280"/>
                <a:ext cx="428760" cy="428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Выгнутая вверх стрелка 23"/>
            <p:cNvSpPr/>
            <p:nvPr/>
          </p:nvSpPr>
          <p:spPr>
            <a:xfrm rot="10996800">
              <a:off x="2055240" y="2831760"/>
              <a:ext cx="779400" cy="218880"/>
            </a:xfrm>
            <a:custGeom>
              <a:avLst/>
              <a:gdLst>
                <a:gd name="textAreaLeft" fmla="*/ 174240 w 779400"/>
                <a:gd name="textAreaRight" fmla="*/ 577800 w 779400"/>
                <a:gd name="textAreaTop" fmla="*/ 29160 h 218880"/>
                <a:gd name="textAreaBottom" fmla="*/ 18972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62" hR="21600" stAng="10800000" swAng="5400000"/>
                  <a:lnTo>
                    <a:pt x="11179" y="0"/>
                  </a:lnTo>
                  <a:arcTo wR="9662" hR="21600" stAng="-5400000" swAng="3600337"/>
                  <a:lnTo>
                    <a:pt x="21293" y="16200"/>
                  </a:lnTo>
                  <a:lnTo>
                    <a:pt x="20083" y="21600"/>
                  </a:lnTo>
                  <a:lnTo>
                    <a:pt x="18258" y="16200"/>
                  </a:lnTo>
                  <a:lnTo>
                    <a:pt x="19017" y="16200"/>
                  </a:lnTo>
                  <a:arcTo wR="9662" hR="21600" stAng="-1799663" swAng="-3479294"/>
                  <a:lnTo>
                    <a:pt x="10421" y="67"/>
                  </a:lnTo>
                  <a:arcTo wR="9662" hR="21600" stAng="-5521043" swAng="-5278957"/>
                  <a:close/>
                </a:path>
                <a:path fill="darkenLess" w="21600" h="21600">
                  <a:moveTo>
                    <a:pt x="0" y="21600"/>
                  </a:moveTo>
                  <a:arcTo wR="9662" hR="21600" stAng="10800000" swAng="5400000"/>
                  <a:lnTo>
                    <a:pt x="9662" y="0"/>
                  </a:lnTo>
                  <a:arcTo wR="9662" hR="21600" stAng="-5400000" swAng="121043"/>
                  <a:lnTo>
                    <a:pt x="10421" y="67"/>
                  </a:lnTo>
                  <a:arcTo wR="9662" hR="21600" stAng="-5521043" swAng="-527895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43"/>
          <p:cNvGrpSpPr/>
          <p:nvPr/>
        </p:nvGrpSpPr>
        <p:grpSpPr>
          <a:xfrm>
            <a:off x="1857240" y="1428840"/>
            <a:ext cx="1285920" cy="715680"/>
            <a:chOff x="1857240" y="1428840"/>
            <a:chExt cx="1285920" cy="715680"/>
          </a:xfrm>
        </p:grpSpPr>
        <p:grpSp>
          <p:nvGrpSpPr>
            <p:cNvPr id="60" name="Группа 27"/>
            <p:cNvGrpSpPr/>
            <p:nvPr/>
          </p:nvGrpSpPr>
          <p:grpSpPr>
            <a:xfrm>
              <a:off x="1857240" y="1428840"/>
              <a:ext cx="1285920" cy="428760"/>
              <a:chOff x="1857240" y="1428840"/>
              <a:chExt cx="1285920" cy="428760"/>
            </a:xfrm>
          </p:grpSpPr>
          <p:grpSp>
            <p:nvGrpSpPr>
              <p:cNvPr id="61" name="Группа 26"/>
              <p:cNvGrpSpPr/>
              <p:nvPr/>
            </p:nvGrpSpPr>
            <p:grpSpPr>
              <a:xfrm>
                <a:off x="1857240" y="1428840"/>
                <a:ext cx="857160" cy="428760"/>
                <a:chOff x="1857240" y="1428840"/>
                <a:chExt cx="857160" cy="428760"/>
              </a:xfrm>
            </p:grpSpPr>
            <p:sp>
              <p:nvSpPr>
                <p:cNvPr id="62" name="Прямоугольник 48"/>
                <p:cNvSpPr/>
                <p:nvPr/>
              </p:nvSpPr>
              <p:spPr>
                <a:xfrm>
                  <a:off x="1857240" y="1428840"/>
                  <a:ext cx="42876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Прямоугольник 49"/>
                <p:cNvSpPr/>
                <p:nvPr/>
              </p:nvSpPr>
              <p:spPr>
                <a:xfrm>
                  <a:off x="2286000" y="1428840"/>
                  <a:ext cx="42840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Прямоугольник 47"/>
              <p:cNvSpPr/>
              <p:nvPr/>
            </p:nvSpPr>
            <p:spPr>
              <a:xfrm>
                <a:off x="2714400" y="1428840"/>
                <a:ext cx="428760" cy="428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Выгнутая вверх стрелка 45"/>
            <p:cNvSpPr/>
            <p:nvPr/>
          </p:nvSpPr>
          <p:spPr>
            <a:xfrm rot="10996800">
              <a:off x="2055240" y="1903320"/>
              <a:ext cx="779400" cy="218880"/>
            </a:xfrm>
            <a:custGeom>
              <a:avLst/>
              <a:gdLst>
                <a:gd name="textAreaLeft" fmla="*/ 174240 w 779400"/>
                <a:gd name="textAreaRight" fmla="*/ 577800 w 779400"/>
                <a:gd name="textAreaTop" fmla="*/ 29160 h 218880"/>
                <a:gd name="textAreaBottom" fmla="*/ 18972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62" hR="21600" stAng="10800000" swAng="5400000"/>
                  <a:lnTo>
                    <a:pt x="11179" y="0"/>
                  </a:lnTo>
                  <a:arcTo wR="9662" hR="21600" stAng="-5400000" swAng="3600337"/>
                  <a:lnTo>
                    <a:pt x="21293" y="16200"/>
                  </a:lnTo>
                  <a:lnTo>
                    <a:pt x="20083" y="21600"/>
                  </a:lnTo>
                  <a:lnTo>
                    <a:pt x="18258" y="16200"/>
                  </a:lnTo>
                  <a:lnTo>
                    <a:pt x="19017" y="16200"/>
                  </a:lnTo>
                  <a:arcTo wR="9662" hR="21600" stAng="-1799663" swAng="-3479294"/>
                  <a:lnTo>
                    <a:pt x="10421" y="67"/>
                  </a:lnTo>
                  <a:arcTo wR="9662" hR="21600" stAng="-5521043" swAng="-5278957"/>
                  <a:close/>
                </a:path>
                <a:path fill="darkenLess" w="21600" h="21600">
                  <a:moveTo>
                    <a:pt x="0" y="21600"/>
                  </a:moveTo>
                  <a:arcTo wR="9662" hR="21600" stAng="10800000" swAng="5400000"/>
                  <a:lnTo>
                    <a:pt x="9662" y="0"/>
                  </a:lnTo>
                  <a:arcTo wR="9662" hR="21600" stAng="-5400000" swAng="121043"/>
                  <a:lnTo>
                    <a:pt x="10421" y="67"/>
                  </a:lnTo>
                  <a:arcTo wR="9662" hR="21600" stAng="-5521043" swAng="-527895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57"/>
          <p:cNvGrpSpPr/>
          <p:nvPr/>
        </p:nvGrpSpPr>
        <p:grpSpPr>
          <a:xfrm>
            <a:off x="1785960" y="3215160"/>
            <a:ext cx="1714320" cy="736200"/>
            <a:chOff x="1785960" y="3215160"/>
            <a:chExt cx="1714320" cy="736200"/>
          </a:xfrm>
        </p:grpSpPr>
        <p:sp>
          <p:nvSpPr>
            <p:cNvPr id="67" name="Прямоугольник 50"/>
            <p:cNvSpPr/>
            <p:nvPr/>
          </p:nvSpPr>
          <p:spPr>
            <a:xfrm rot="10800000">
              <a:off x="2616480" y="3522600"/>
              <a:ext cx="42840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Группа 56"/>
            <p:cNvGrpSpPr/>
            <p:nvPr/>
          </p:nvGrpSpPr>
          <p:grpSpPr>
            <a:xfrm>
              <a:off x="1785960" y="3215160"/>
              <a:ext cx="1714320" cy="736200"/>
              <a:chOff x="1785960" y="3215160"/>
              <a:chExt cx="1714320" cy="736200"/>
            </a:xfrm>
          </p:grpSpPr>
          <p:sp>
            <p:nvSpPr>
              <p:cNvPr id="69" name="Выгнутая вверх стрелка 24"/>
              <p:cNvSpPr/>
              <p:nvPr/>
            </p:nvSpPr>
            <p:spPr>
              <a:xfrm>
                <a:off x="2036880" y="3215160"/>
                <a:ext cx="1195200" cy="307800"/>
              </a:xfrm>
              <a:custGeom>
                <a:avLst/>
                <a:gdLst>
                  <a:gd name="textAreaLeft" fmla="*/ 270000 w 1195200"/>
                  <a:gd name="textAreaRight" fmla="*/ 887040 w 1195200"/>
                  <a:gd name="textAreaTop" fmla="*/ 41040 h 307800"/>
                  <a:gd name="textAreaBottom" fmla="*/ 26676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9757" hR="21600" stAng="10800000" swAng="5400000"/>
                    <a:lnTo>
                      <a:pt x="11148" y="0"/>
                    </a:lnTo>
                    <a:arcTo wR="9757" hR="21600" stAng="-5400000" swAng="3614864"/>
                    <a:lnTo>
                      <a:pt x="21290" y="16200"/>
                    </a:lnTo>
                    <a:lnTo>
                      <a:pt x="20210" y="21600"/>
                    </a:lnTo>
                    <a:lnTo>
                      <a:pt x="18509" y="16200"/>
                    </a:lnTo>
                    <a:lnTo>
                      <a:pt x="19204" y="16200"/>
                    </a:lnTo>
                    <a:arcTo wR="9757" hR="21600" stAng="-1785136" swAng="-3503928"/>
                    <a:lnTo>
                      <a:pt x="10452" y="55"/>
                    </a:lnTo>
                    <a:arcTo wR="9757" hR="21600" stAng="-5510936" swAng="-5289064"/>
                    <a:close/>
                  </a:path>
                  <a:path fill="darkenLess" w="21600" h="21600">
                    <a:moveTo>
                      <a:pt x="0" y="21600"/>
                    </a:moveTo>
                    <a:arcTo wR="9757" hR="21600" stAng="10800000" swAng="5400000"/>
                    <a:lnTo>
                      <a:pt x="9757" y="0"/>
                    </a:lnTo>
                    <a:arcTo wR="9757" hR="21600" stAng="-5400000" swAng="110936"/>
                    <a:lnTo>
                      <a:pt x="10452" y="55"/>
                    </a:lnTo>
                    <a:arcTo wR="9757" hR="21600" stAng="-5510936" swAng="-5289064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Группа 55"/>
              <p:cNvGrpSpPr/>
              <p:nvPr/>
            </p:nvGrpSpPr>
            <p:grpSpPr>
              <a:xfrm>
                <a:off x="1785960" y="3522600"/>
                <a:ext cx="1714320" cy="428760"/>
                <a:chOff x="1785960" y="3522600"/>
                <a:chExt cx="1714320" cy="428760"/>
              </a:xfrm>
            </p:grpSpPr>
            <p:sp>
              <p:nvSpPr>
                <p:cNvPr id="71" name="Прямоугольник 15"/>
                <p:cNvSpPr/>
                <p:nvPr/>
              </p:nvSpPr>
              <p:spPr>
                <a:xfrm rot="10800000">
                  <a:off x="3071880" y="3522600"/>
                  <a:ext cx="42840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Прямоугольник 51"/>
                <p:cNvSpPr/>
                <p:nvPr/>
              </p:nvSpPr>
              <p:spPr>
                <a:xfrm rot="10800000">
                  <a:off x="2214720" y="3522600"/>
                  <a:ext cx="42840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Прямоугольник 52"/>
                <p:cNvSpPr/>
                <p:nvPr/>
              </p:nvSpPr>
              <p:spPr>
                <a:xfrm rot="10800000">
                  <a:off x="1785960" y="3522600"/>
                  <a:ext cx="428400" cy="4287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" name="Группа 61"/>
          <p:cNvGrpSpPr/>
          <p:nvPr/>
        </p:nvGrpSpPr>
        <p:grpSpPr>
          <a:xfrm>
            <a:off x="1928880" y="4357800"/>
            <a:ext cx="857160" cy="714240"/>
            <a:chOff x="1928880" y="4357800"/>
            <a:chExt cx="857160" cy="714240"/>
          </a:xfrm>
        </p:grpSpPr>
        <p:sp>
          <p:nvSpPr>
            <p:cNvPr id="75" name="Прямоугольник 53"/>
            <p:cNvSpPr/>
            <p:nvPr/>
          </p:nvSpPr>
          <p:spPr>
            <a:xfrm>
              <a:off x="1928880" y="4357800"/>
              <a:ext cx="428760" cy="42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Группа 60"/>
            <p:cNvGrpSpPr/>
            <p:nvPr/>
          </p:nvGrpSpPr>
          <p:grpSpPr>
            <a:xfrm>
              <a:off x="2071440" y="4357800"/>
              <a:ext cx="714600" cy="714240"/>
              <a:chOff x="2071440" y="4357800"/>
              <a:chExt cx="714600" cy="714240"/>
            </a:xfrm>
          </p:grpSpPr>
          <p:sp>
            <p:nvSpPr>
              <p:cNvPr id="77" name="Выгнутая вверх стрелка 54"/>
              <p:cNvSpPr/>
              <p:nvPr/>
            </p:nvSpPr>
            <p:spPr>
              <a:xfrm rot="10800000">
                <a:off x="2071440" y="4786200"/>
                <a:ext cx="624240" cy="285840"/>
              </a:xfrm>
              <a:custGeom>
                <a:avLst/>
                <a:gdLst>
                  <a:gd name="textAreaLeft" fmla="*/ 129240 w 624240"/>
                  <a:gd name="textAreaRight" fmla="*/ 459360 w 624240"/>
                  <a:gd name="textAreaTop" fmla="*/ 38160 h 285840"/>
                  <a:gd name="textAreaBottom" fmla="*/ 24768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945" hR="21600" stAng="10800000" swAng="5400000"/>
                    <a:lnTo>
                      <a:pt x="11418" y="0"/>
                    </a:lnTo>
                    <a:arcTo wR="8945" hR="21600" stAng="-5400000" swAng="3483418"/>
                    <a:lnTo>
                      <a:pt x="21316" y="16200"/>
                    </a:lnTo>
                    <a:lnTo>
                      <a:pt x="19127" y="21600"/>
                    </a:lnTo>
                    <a:lnTo>
                      <a:pt x="16369" y="16200"/>
                    </a:lnTo>
                    <a:lnTo>
                      <a:pt x="17606" y="16200"/>
                    </a:lnTo>
                    <a:arcTo wR="8945" hR="21600" stAng="-1916582" swAng="-3284937"/>
                    <a:lnTo>
                      <a:pt x="10181" y="207"/>
                    </a:lnTo>
                    <a:arcTo wR="8945" hR="21600" stAng="-5598482" swAng="-5201518"/>
                    <a:close/>
                  </a:path>
                  <a:path fill="darkenLess" w="21600" h="21600">
                    <a:moveTo>
                      <a:pt x="0" y="21600"/>
                    </a:moveTo>
                    <a:arcTo wR="8945" hR="21600" stAng="10800000" swAng="5400000"/>
                    <a:lnTo>
                      <a:pt x="8945" y="0"/>
                    </a:lnTo>
                    <a:arcTo wR="8945" hR="21600" stAng="-5400000" swAng="198482"/>
                    <a:lnTo>
                      <a:pt x="10181" y="207"/>
                    </a:lnTo>
                    <a:arcTo wR="8945" hR="21600" stAng="-5598482" swAng="-5201518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оугольник 58"/>
              <p:cNvSpPr/>
              <p:nvPr/>
            </p:nvSpPr>
            <p:spPr>
              <a:xfrm>
                <a:off x="2357280" y="4357800"/>
                <a:ext cx="428760" cy="42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Группа 62"/>
          <p:cNvGrpSpPr/>
          <p:nvPr/>
        </p:nvGrpSpPr>
        <p:grpSpPr>
          <a:xfrm>
            <a:off x="5429160" y="2928960"/>
            <a:ext cx="857520" cy="714240"/>
            <a:chOff x="5429160" y="2928960"/>
            <a:chExt cx="857520" cy="714240"/>
          </a:xfrm>
        </p:grpSpPr>
        <p:sp>
          <p:nvSpPr>
            <p:cNvPr id="80" name="Прямоугольник 63"/>
            <p:cNvSpPr/>
            <p:nvPr/>
          </p:nvSpPr>
          <p:spPr>
            <a:xfrm>
              <a:off x="5429160" y="2928960"/>
              <a:ext cx="428760" cy="42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Группа 60"/>
            <p:cNvGrpSpPr/>
            <p:nvPr/>
          </p:nvGrpSpPr>
          <p:grpSpPr>
            <a:xfrm>
              <a:off x="5572080" y="2928960"/>
              <a:ext cx="714600" cy="714240"/>
              <a:chOff x="5572080" y="2928960"/>
              <a:chExt cx="714600" cy="714240"/>
            </a:xfrm>
          </p:grpSpPr>
          <p:sp>
            <p:nvSpPr>
              <p:cNvPr id="82" name="Выгнутая вверх стрелка 65"/>
              <p:cNvSpPr/>
              <p:nvPr/>
            </p:nvSpPr>
            <p:spPr>
              <a:xfrm rot="10800000">
                <a:off x="5572080" y="3357360"/>
                <a:ext cx="624240" cy="285840"/>
              </a:xfrm>
              <a:custGeom>
                <a:avLst/>
                <a:gdLst>
                  <a:gd name="textAreaLeft" fmla="*/ 129240 w 624240"/>
                  <a:gd name="textAreaRight" fmla="*/ 459360 w 624240"/>
                  <a:gd name="textAreaTop" fmla="*/ 38160 h 285840"/>
                  <a:gd name="textAreaBottom" fmla="*/ 24768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945" hR="21600" stAng="10800000" swAng="5400000"/>
                    <a:lnTo>
                      <a:pt x="11418" y="0"/>
                    </a:lnTo>
                    <a:arcTo wR="8945" hR="21600" stAng="-5400000" swAng="3483418"/>
                    <a:lnTo>
                      <a:pt x="21316" y="16200"/>
                    </a:lnTo>
                    <a:lnTo>
                      <a:pt x="19127" y="21600"/>
                    </a:lnTo>
                    <a:lnTo>
                      <a:pt x="16369" y="16200"/>
                    </a:lnTo>
                    <a:lnTo>
                      <a:pt x="17606" y="16200"/>
                    </a:lnTo>
                    <a:arcTo wR="8945" hR="21600" stAng="-1916582" swAng="-3284937"/>
                    <a:lnTo>
                      <a:pt x="10181" y="207"/>
                    </a:lnTo>
                    <a:arcTo wR="8945" hR="21600" stAng="-5598482" swAng="-5201518"/>
                    <a:close/>
                  </a:path>
                  <a:path fill="darkenLess" w="21600" h="21600">
                    <a:moveTo>
                      <a:pt x="0" y="21600"/>
                    </a:moveTo>
                    <a:arcTo wR="8945" hR="21600" stAng="10800000" swAng="5400000"/>
                    <a:lnTo>
                      <a:pt x="8945" y="0"/>
                    </a:lnTo>
                    <a:arcTo wR="8945" hR="21600" stAng="-5400000" swAng="198482"/>
                    <a:lnTo>
                      <a:pt x="10181" y="207"/>
                    </a:lnTo>
                    <a:arcTo wR="8945" hR="21600" stAng="-5598482" swAng="-5201518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оугольник 66"/>
              <p:cNvSpPr/>
              <p:nvPr/>
            </p:nvSpPr>
            <p:spPr>
              <a:xfrm>
                <a:off x="5857920" y="2928960"/>
                <a:ext cx="428760" cy="42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Группа 72"/>
          <p:cNvGrpSpPr/>
          <p:nvPr/>
        </p:nvGrpSpPr>
        <p:grpSpPr>
          <a:xfrm>
            <a:off x="5357880" y="1785960"/>
            <a:ext cx="857160" cy="714240"/>
            <a:chOff x="5357880" y="1785960"/>
            <a:chExt cx="857160" cy="714240"/>
          </a:xfrm>
        </p:grpSpPr>
        <p:sp>
          <p:nvSpPr>
            <p:cNvPr id="85" name="Прямоугольник 73"/>
            <p:cNvSpPr/>
            <p:nvPr/>
          </p:nvSpPr>
          <p:spPr>
            <a:xfrm>
              <a:off x="5357880" y="1785960"/>
              <a:ext cx="428760" cy="42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Группа 60"/>
            <p:cNvGrpSpPr/>
            <p:nvPr/>
          </p:nvGrpSpPr>
          <p:grpSpPr>
            <a:xfrm>
              <a:off x="5500440" y="1785960"/>
              <a:ext cx="714600" cy="714240"/>
              <a:chOff x="5500440" y="1785960"/>
              <a:chExt cx="714600" cy="714240"/>
            </a:xfrm>
          </p:grpSpPr>
          <p:sp>
            <p:nvSpPr>
              <p:cNvPr id="87" name="Выгнутая вверх стрелка 75"/>
              <p:cNvSpPr/>
              <p:nvPr/>
            </p:nvSpPr>
            <p:spPr>
              <a:xfrm rot="10800000">
                <a:off x="5500440" y="2214360"/>
                <a:ext cx="624240" cy="285840"/>
              </a:xfrm>
              <a:custGeom>
                <a:avLst/>
                <a:gdLst>
                  <a:gd name="textAreaLeft" fmla="*/ 129240 w 624240"/>
                  <a:gd name="textAreaRight" fmla="*/ 459360 w 624240"/>
                  <a:gd name="textAreaTop" fmla="*/ 38160 h 285840"/>
                  <a:gd name="textAreaBottom" fmla="*/ 24768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945" hR="21600" stAng="10800000" swAng="5400000"/>
                    <a:lnTo>
                      <a:pt x="11418" y="0"/>
                    </a:lnTo>
                    <a:arcTo wR="8945" hR="21600" stAng="-5400000" swAng="3483418"/>
                    <a:lnTo>
                      <a:pt x="21316" y="16200"/>
                    </a:lnTo>
                    <a:lnTo>
                      <a:pt x="19127" y="21600"/>
                    </a:lnTo>
                    <a:lnTo>
                      <a:pt x="16369" y="16200"/>
                    </a:lnTo>
                    <a:lnTo>
                      <a:pt x="17606" y="16200"/>
                    </a:lnTo>
                    <a:arcTo wR="8945" hR="21600" stAng="-1916582" swAng="-3284937"/>
                    <a:lnTo>
                      <a:pt x="10181" y="207"/>
                    </a:lnTo>
                    <a:arcTo wR="8945" hR="21600" stAng="-5598482" swAng="-5201518"/>
                    <a:close/>
                  </a:path>
                  <a:path fill="darkenLess" w="21600" h="21600">
                    <a:moveTo>
                      <a:pt x="0" y="21600"/>
                    </a:moveTo>
                    <a:arcTo wR="8945" hR="21600" stAng="10800000" swAng="5400000"/>
                    <a:lnTo>
                      <a:pt x="8945" y="0"/>
                    </a:lnTo>
                    <a:arcTo wR="8945" hR="21600" stAng="-5400000" swAng="198482"/>
                    <a:lnTo>
                      <a:pt x="10181" y="207"/>
                    </a:lnTo>
                    <a:arcTo wR="8945" hR="21600" stAng="-5598482" swAng="-5201518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Прямоугольник 76"/>
              <p:cNvSpPr/>
              <p:nvPr/>
            </p:nvSpPr>
            <p:spPr>
              <a:xfrm>
                <a:off x="5786280" y="1785960"/>
                <a:ext cx="428760" cy="428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" name="Прямоугольник 77" descr=""/>
          <p:cNvPicPr/>
          <p:nvPr/>
        </p:nvPicPr>
        <p:blipFill>
          <a:blip r:embed="rId1"/>
          <a:stretch/>
        </p:blipFill>
        <p:spPr>
          <a:xfrm>
            <a:off x="1285920" y="1427040"/>
            <a:ext cx="414360" cy="584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78" descr=""/>
          <p:cNvPicPr/>
          <p:nvPr/>
        </p:nvPicPr>
        <p:blipFill>
          <a:blip r:embed="rId2"/>
          <a:stretch/>
        </p:blipFill>
        <p:spPr>
          <a:xfrm>
            <a:off x="1285920" y="2212920"/>
            <a:ext cx="414360" cy="5857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79" descr=""/>
          <p:cNvPicPr/>
          <p:nvPr/>
        </p:nvPicPr>
        <p:blipFill>
          <a:blip r:embed="rId3"/>
          <a:stretch/>
        </p:blipFill>
        <p:spPr>
          <a:xfrm>
            <a:off x="1212840" y="3359160"/>
            <a:ext cx="414360" cy="5842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80" descr=""/>
          <p:cNvPicPr/>
          <p:nvPr/>
        </p:nvPicPr>
        <p:blipFill>
          <a:blip r:embed="rId4"/>
          <a:stretch/>
        </p:blipFill>
        <p:spPr>
          <a:xfrm>
            <a:off x="1212840" y="4211640"/>
            <a:ext cx="41436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1" descr=""/>
          <p:cNvPicPr/>
          <p:nvPr/>
        </p:nvPicPr>
        <p:blipFill>
          <a:blip r:embed="rId5"/>
          <a:stretch/>
        </p:blipFill>
        <p:spPr>
          <a:xfrm>
            <a:off x="4784760" y="1712880"/>
            <a:ext cx="415800" cy="5857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82" descr=""/>
          <p:cNvPicPr/>
          <p:nvPr/>
        </p:nvPicPr>
        <p:blipFill>
          <a:blip r:embed="rId6"/>
          <a:stretch/>
        </p:blipFill>
        <p:spPr>
          <a:xfrm>
            <a:off x="4857840" y="2786040"/>
            <a:ext cx="415800" cy="585720"/>
          </a:xfrm>
          <a:prstGeom prst="rect">
            <a:avLst/>
          </a:prstGeom>
          <a:ln w="0">
            <a:noFill/>
          </a:ln>
        </p:spPr>
      </p:pic>
      <p:grpSp>
        <p:nvGrpSpPr>
          <p:cNvPr id="95" name="Группа 87"/>
          <p:cNvGrpSpPr/>
          <p:nvPr/>
        </p:nvGrpSpPr>
        <p:grpSpPr>
          <a:xfrm>
            <a:off x="1000080" y="5572080"/>
            <a:ext cx="7143840" cy="1071720"/>
            <a:chOff x="1000080" y="5572080"/>
            <a:chExt cx="7143840" cy="1071720"/>
          </a:xfrm>
        </p:grpSpPr>
        <p:sp>
          <p:nvSpPr>
            <p:cNvPr id="96" name="Прямоугольник 59"/>
            <p:cNvSpPr/>
            <p:nvPr/>
          </p:nvSpPr>
          <p:spPr>
            <a:xfrm>
              <a:off x="5286240" y="5572080"/>
              <a:ext cx="1428840" cy="1071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Группа 62"/>
            <p:cNvGrpSpPr/>
            <p:nvPr/>
          </p:nvGrpSpPr>
          <p:grpSpPr>
            <a:xfrm>
              <a:off x="1000080" y="5572080"/>
              <a:ext cx="7143840" cy="1071720"/>
              <a:chOff x="1000080" y="5572080"/>
              <a:chExt cx="7143840" cy="1071720"/>
            </a:xfrm>
          </p:grpSpPr>
          <p:grpSp>
            <p:nvGrpSpPr>
              <p:cNvPr id="98" name="Группа 61"/>
              <p:cNvGrpSpPr/>
              <p:nvPr/>
            </p:nvGrpSpPr>
            <p:grpSpPr>
              <a:xfrm>
                <a:off x="1000080" y="5572080"/>
                <a:ext cx="2857320" cy="1071720"/>
                <a:chOff x="1000080" y="5572080"/>
                <a:chExt cx="2857320" cy="1071720"/>
              </a:xfrm>
            </p:grpSpPr>
            <p:sp>
              <p:nvSpPr>
                <p:cNvPr id="99" name="Прямоугольник 55"/>
                <p:cNvSpPr/>
                <p:nvPr/>
              </p:nvSpPr>
              <p:spPr>
                <a:xfrm>
                  <a:off x="1000080" y="5572080"/>
                  <a:ext cx="1428840" cy="1071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Прямоугольник 56"/>
                <p:cNvSpPr/>
                <p:nvPr/>
              </p:nvSpPr>
              <p:spPr>
                <a:xfrm>
                  <a:off x="2428920" y="5572080"/>
                  <a:ext cx="1428480" cy="1071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Прямоугольник 57"/>
              <p:cNvSpPr/>
              <p:nvPr/>
            </p:nvSpPr>
            <p:spPr>
              <a:xfrm>
                <a:off x="3857400" y="5572080"/>
                <a:ext cx="1428840" cy="1071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Прямоугольник 60"/>
              <p:cNvSpPr/>
              <p:nvPr/>
            </p:nvSpPr>
            <p:spPr>
              <a:xfrm>
                <a:off x="6715080" y="5572080"/>
                <a:ext cx="1428840" cy="1071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Прямоугольник 64" descr=""/>
          <p:cNvPicPr/>
          <p:nvPr/>
        </p:nvPicPr>
        <p:blipFill>
          <a:blip r:embed="rId7"/>
          <a:stretch/>
        </p:blipFill>
        <p:spPr>
          <a:xfrm>
            <a:off x="2859120" y="5645160"/>
            <a:ext cx="566640" cy="920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70" descr=""/>
          <p:cNvPicPr/>
          <p:nvPr/>
        </p:nvPicPr>
        <p:blipFill>
          <a:blip r:embed="rId8"/>
          <a:stretch/>
        </p:blipFill>
        <p:spPr>
          <a:xfrm>
            <a:off x="3713040" y="5718240"/>
            <a:ext cx="1621080" cy="8287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4"/>
          <p:cNvSpPr/>
          <p:nvPr/>
        </p:nvSpPr>
        <p:spPr>
          <a:xfrm>
            <a:off x="5214960" y="5572080"/>
            <a:ext cx="1428840" cy="1071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72" descr=""/>
          <p:cNvPicPr/>
          <p:nvPr/>
        </p:nvPicPr>
        <p:blipFill>
          <a:blip r:embed="rId9"/>
          <a:stretch/>
        </p:blipFill>
        <p:spPr>
          <a:xfrm>
            <a:off x="5284800" y="5645160"/>
            <a:ext cx="1341360" cy="9208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84" descr=""/>
          <p:cNvPicPr/>
          <p:nvPr/>
        </p:nvPicPr>
        <p:blipFill>
          <a:blip r:embed="rId10"/>
          <a:stretch/>
        </p:blipFill>
        <p:spPr>
          <a:xfrm>
            <a:off x="6645240" y="5645160"/>
            <a:ext cx="1498680" cy="8287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8" descr=""/>
          <p:cNvPicPr/>
          <p:nvPr/>
        </p:nvPicPr>
        <p:blipFill>
          <a:blip r:embed="rId11"/>
          <a:stretch/>
        </p:blipFill>
        <p:spPr>
          <a:xfrm>
            <a:off x="927000" y="5645160"/>
            <a:ext cx="1621080" cy="828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2"/>
          <a:stretch/>
        </p:blipFill>
        <p:spPr>
          <a:xfrm>
            <a:off x="3859200" y="5718240"/>
            <a:ext cx="1498680" cy="8287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83" descr=""/>
          <p:cNvPicPr/>
          <p:nvPr/>
        </p:nvPicPr>
        <p:blipFill>
          <a:blip r:embed="rId13"/>
          <a:stretch/>
        </p:blipFill>
        <p:spPr>
          <a:xfrm>
            <a:off x="7143840" y="5645160"/>
            <a:ext cx="568080" cy="9208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86" descr=""/>
          <p:cNvPicPr/>
          <p:nvPr/>
        </p:nvPicPr>
        <p:blipFill>
          <a:blip r:embed="rId14"/>
          <a:stretch/>
        </p:blipFill>
        <p:spPr>
          <a:xfrm>
            <a:off x="2425680" y="5645160"/>
            <a:ext cx="1506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-0.14358 -0.01227 E">
                                      <p:cBhvr>
                                        <p:cTn id="6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7 0.00185 L -0.16094 4.07407E-006 E">
                                      <p:cBhvr>
                                        <p:cTn id="6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1500120" y="1712880"/>
            <a:ext cx="595476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13" name="Группа 12"/>
          <p:cNvGrpSpPr/>
          <p:nvPr/>
        </p:nvGrpSpPr>
        <p:grpSpPr>
          <a:xfrm>
            <a:off x="785880" y="5429160"/>
            <a:ext cx="1643040" cy="357120"/>
            <a:chOff x="785880" y="5429160"/>
            <a:chExt cx="1643040" cy="357120"/>
          </a:xfrm>
        </p:grpSpPr>
        <p:sp>
          <p:nvSpPr>
            <p:cNvPr id="114" name="Прямая соединительная линия 9"/>
            <p:cNvSpPr/>
            <p:nvPr/>
          </p:nvSpPr>
          <p:spPr>
            <a:xfrm>
              <a:off x="785880" y="5429160"/>
              <a:ext cx="1640160" cy="1440"/>
            </a:xfrm>
            <a:prstGeom prst="line">
              <a:avLst/>
            </a:prstGeom>
            <a:ln w="507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11"/>
            <p:cNvSpPr/>
            <p:nvPr/>
          </p:nvSpPr>
          <p:spPr>
            <a:xfrm flipH="1">
              <a:off x="2426040" y="5429160"/>
              <a:ext cx="2880" cy="357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Арка 13"/>
          <p:cNvSpPr/>
          <p:nvPr/>
        </p:nvSpPr>
        <p:spPr>
          <a:xfrm>
            <a:off x="2714760" y="5500800"/>
            <a:ext cx="1857240" cy="500040"/>
          </a:xfrm>
          <a:custGeom>
            <a:avLst/>
            <a:gdLst/>
            <a:ahLst/>
            <a:rect l="l" t="t" r="r" b="b"/>
            <a:pathLst>
              <a:path w="1857375" h="500062">
                <a:moveTo>
                  <a:pt x="0" y="250031"/>
                </a:moveTo>
                <a:cubicBezTo>
                  <a:pt x="0" y="111943"/>
                  <a:pt x="415788" y="0"/>
                  <a:pt x="928688" y="0"/>
                </a:cubicBezTo>
                <a:cubicBezTo>
                  <a:pt x="1441588" y="0"/>
                  <a:pt x="1857376" y="111943"/>
                  <a:pt x="1857376" y="250031"/>
                </a:cubicBezTo>
                <a:lnTo>
                  <a:pt x="1732360" y="250031"/>
                </a:lnTo>
                <a:cubicBezTo>
                  <a:pt x="1732360" y="180987"/>
                  <a:pt x="1372544" y="125015"/>
                  <a:pt x="928688" y="125015"/>
                </a:cubicBezTo>
                <a:cubicBezTo>
                  <a:pt x="484832" y="125015"/>
                  <a:pt x="125016" y="180987"/>
                  <a:pt x="125016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4572000" y="4214880"/>
            <a:ext cx="642960" cy="9288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Группа 21"/>
          <p:cNvGrpSpPr/>
          <p:nvPr/>
        </p:nvGrpSpPr>
        <p:grpSpPr>
          <a:xfrm>
            <a:off x="5357520" y="5286240"/>
            <a:ext cx="1214640" cy="500040"/>
            <a:chOff x="5357520" y="5286240"/>
            <a:chExt cx="1214640" cy="500040"/>
          </a:xfrm>
        </p:grpSpPr>
        <p:sp>
          <p:nvSpPr>
            <p:cNvPr id="119" name="Прямая соединительная линия 17"/>
            <p:cNvSpPr/>
            <p:nvPr/>
          </p:nvSpPr>
          <p:spPr>
            <a:xfrm flipH="1">
              <a:off x="5357520" y="5286240"/>
              <a:ext cx="654120" cy="500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19"/>
            <p:cNvSpPr/>
            <p:nvPr/>
          </p:nvSpPr>
          <p:spPr>
            <a:xfrm>
              <a:off x="6012000" y="5286240"/>
              <a:ext cx="560160" cy="500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2"/>
          <a:stretch/>
        </p:blipFill>
        <p:spPr>
          <a:xfrm>
            <a:off x="6286680" y="2357280"/>
            <a:ext cx="21808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8 -0.03403 L 0.11962 -0.55903 E">
                                      <p:cBhvr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09444 -0.525 E">
                                      <p:cBhvr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-0.04468 L 0.01319 -0.54862 E">
                                      <p:cBhvr>
                                        <p:cTn id="8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76 -0.04561 L 0.24844 -0.36065 E">
                                      <p:cBhvr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4" descr=""/>
          <p:cNvPicPr/>
          <p:nvPr/>
        </p:nvPicPr>
        <p:blipFill>
          <a:blip r:embed="rId1"/>
          <a:stretch/>
        </p:blipFill>
        <p:spPr>
          <a:xfrm>
            <a:off x="1573200" y="1212840"/>
            <a:ext cx="5924520" cy="275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2"/>
          <a:stretch/>
        </p:blipFill>
        <p:spPr>
          <a:xfrm>
            <a:off x="6429240" y="2428920"/>
            <a:ext cx="2181240" cy="469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bobyleva\Рабочий стол\открытый урок информатика и русс яз\энтик1.gif"/>
          <p:cNvPicPr/>
          <p:nvPr/>
        </p:nvPicPr>
        <p:blipFill>
          <a:blip r:embed="rId3"/>
          <a:stretch/>
        </p:blipFill>
        <p:spPr>
          <a:xfrm>
            <a:off x="571680" y="3500280"/>
            <a:ext cx="2928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71760" y="1428840"/>
          <a:ext cx="6405480" cy="4103640"/>
        </p:xfrm>
        <a:graphic>
          <a:graphicData uri="http://schemas.openxmlformats.org/drawingml/2006/table">
            <a:tbl>
              <a:tblPr/>
              <a:tblGrid>
                <a:gridCol w="1601640"/>
                <a:gridCol w="1601640"/>
                <a:gridCol w="1600200"/>
                <a:gridCol w="160200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Прямоугольник 4" descr=""/>
          <p:cNvPicPr/>
          <p:nvPr/>
        </p:nvPicPr>
        <p:blipFill>
          <a:blip r:embed="rId2"/>
          <a:stretch/>
        </p:blipFill>
        <p:spPr>
          <a:xfrm>
            <a:off x="1073160" y="2571840"/>
            <a:ext cx="444600" cy="64764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2073240" y="5430960"/>
            <a:ext cx="444600" cy="64584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6" descr=""/>
          <p:cNvPicPr/>
          <p:nvPr/>
        </p:nvPicPr>
        <p:blipFill>
          <a:blip r:embed="rId4"/>
          <a:stretch/>
        </p:blipFill>
        <p:spPr>
          <a:xfrm>
            <a:off x="1073160" y="3645000"/>
            <a:ext cx="444600" cy="64584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7" descr=""/>
          <p:cNvPicPr/>
          <p:nvPr/>
        </p:nvPicPr>
        <p:blipFill>
          <a:blip r:embed="rId5"/>
          <a:stretch/>
        </p:blipFill>
        <p:spPr>
          <a:xfrm>
            <a:off x="3786120" y="5430960"/>
            <a:ext cx="451080" cy="6458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8" descr=""/>
          <p:cNvPicPr/>
          <p:nvPr/>
        </p:nvPicPr>
        <p:blipFill>
          <a:blip r:embed="rId6"/>
          <a:stretch/>
        </p:blipFill>
        <p:spPr>
          <a:xfrm>
            <a:off x="6997680" y="5430960"/>
            <a:ext cx="450720" cy="6458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0" descr=""/>
          <p:cNvPicPr/>
          <p:nvPr/>
        </p:nvPicPr>
        <p:blipFill>
          <a:blip r:embed="rId7"/>
          <a:stretch/>
        </p:blipFill>
        <p:spPr>
          <a:xfrm>
            <a:off x="5284800" y="5430960"/>
            <a:ext cx="450720" cy="6458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1" descr=""/>
          <p:cNvPicPr/>
          <p:nvPr/>
        </p:nvPicPr>
        <p:blipFill>
          <a:blip r:embed="rId8"/>
          <a:stretch/>
        </p:blipFill>
        <p:spPr>
          <a:xfrm>
            <a:off x="1073160" y="1573200"/>
            <a:ext cx="44460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2" descr=""/>
          <p:cNvPicPr/>
          <p:nvPr/>
        </p:nvPicPr>
        <p:blipFill>
          <a:blip r:embed="rId9"/>
          <a:stretch/>
        </p:blipFill>
        <p:spPr>
          <a:xfrm>
            <a:off x="1073160" y="4857840"/>
            <a:ext cx="44460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V:\библиотека картинок\анимашки\ris\07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071800" y="3571920"/>
            <a:ext cx="72396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V:\библиотека картинок\анимашки\ris\07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2714760"/>
            <a:ext cx="723960" cy="7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V:\библиотека картинок\анимашки\ris\07.GI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072040" y="1643040"/>
            <a:ext cx="723960" cy="70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V:\библиотека картинок\анимашки\ris\07.GIF"/>
          <p:cNvPicPr/>
          <p:nvPr/>
        </p:nvPicPr>
        <p:blipFill>
          <a:blip r:embed="rId16"/>
          <a:stretch/>
        </p:blipFill>
        <p:spPr>
          <a:xfrm>
            <a:off x="6929280" y="2714760"/>
            <a:ext cx="723960" cy="70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V:\библиотека картинок\анимашки\ris\07.GIF"/>
          <p:cNvPicPr/>
          <p:nvPr/>
        </p:nvPicPr>
        <p:blipFill>
          <a:blip r:embed="rId17"/>
          <a:stretch/>
        </p:blipFill>
        <p:spPr>
          <a:xfrm>
            <a:off x="5357880" y="3714840"/>
            <a:ext cx="723960" cy="70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V:\библиотека картинок\анимашки\ris\07.GIF"/>
          <p:cNvPicPr/>
          <p:nvPr/>
        </p:nvPicPr>
        <p:blipFill>
          <a:blip r:embed="rId18"/>
          <a:stretch/>
        </p:blipFill>
        <p:spPr>
          <a:xfrm>
            <a:off x="6786720" y="4714920"/>
            <a:ext cx="723600" cy="70488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9" descr=""/>
          <p:cNvPicPr/>
          <p:nvPr/>
        </p:nvPicPr>
        <p:blipFill>
          <a:blip r:embed="rId19"/>
          <a:stretch/>
        </p:blipFill>
        <p:spPr>
          <a:xfrm>
            <a:off x="5072040" y="1427040"/>
            <a:ext cx="689040" cy="9255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20" descr=""/>
          <p:cNvPicPr/>
          <p:nvPr/>
        </p:nvPicPr>
        <p:blipFill>
          <a:blip r:embed="rId20"/>
          <a:stretch/>
        </p:blipFill>
        <p:spPr>
          <a:xfrm>
            <a:off x="3213000" y="2498760"/>
            <a:ext cx="76860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21" descr=""/>
          <p:cNvPicPr/>
          <p:nvPr/>
        </p:nvPicPr>
        <p:blipFill>
          <a:blip r:embed="rId21"/>
          <a:stretch/>
        </p:blipFill>
        <p:spPr>
          <a:xfrm>
            <a:off x="2425680" y="3498840"/>
            <a:ext cx="628560" cy="9270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22" descr=""/>
          <p:cNvPicPr/>
          <p:nvPr/>
        </p:nvPicPr>
        <p:blipFill>
          <a:blip r:embed="rId22"/>
          <a:stretch/>
        </p:blipFill>
        <p:spPr>
          <a:xfrm>
            <a:off x="7358040" y="2571840"/>
            <a:ext cx="689040" cy="9205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3" descr=""/>
          <p:cNvPicPr/>
          <p:nvPr/>
        </p:nvPicPr>
        <p:blipFill>
          <a:blip r:embed="rId23"/>
          <a:stretch/>
        </p:blipFill>
        <p:spPr>
          <a:xfrm>
            <a:off x="5572080" y="3571920"/>
            <a:ext cx="700200" cy="94464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4" descr=""/>
          <p:cNvPicPr/>
          <p:nvPr/>
        </p:nvPicPr>
        <p:blipFill>
          <a:blip r:embed="rId24"/>
          <a:stretch/>
        </p:blipFill>
        <p:spPr>
          <a:xfrm>
            <a:off x="6931080" y="4572000"/>
            <a:ext cx="695160" cy="92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25"/>
          <a:stretch/>
        </p:blipFill>
        <p:spPr>
          <a:xfrm>
            <a:off x="2000160" y="4500720"/>
            <a:ext cx="714600" cy="100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26"/>
          <a:stretch/>
        </p:blipFill>
        <p:spPr>
          <a:xfrm>
            <a:off x="6286680" y="4572000"/>
            <a:ext cx="71424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27"/>
          <a:stretch/>
        </p:blipFill>
        <p:spPr>
          <a:xfrm>
            <a:off x="1571760" y="3429000"/>
            <a:ext cx="714240" cy="100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28"/>
          <a:stretch/>
        </p:blipFill>
        <p:spPr>
          <a:xfrm>
            <a:off x="3857760" y="2714760"/>
            <a:ext cx="1006200" cy="71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29"/>
          <a:stretch/>
        </p:blipFill>
        <p:spPr>
          <a:xfrm>
            <a:off x="5715000" y="1357200"/>
            <a:ext cx="714240" cy="10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30"/>
          <a:stretch/>
        </p:blipFill>
        <p:spPr>
          <a:xfrm>
            <a:off x="6286680" y="2428920"/>
            <a:ext cx="714240" cy="100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C:\Documents and Settings\bobyleva\Рабочий стол\открытый урок информатика и русс яз\энтиксверху1.gif"/>
          <p:cNvPicPr/>
          <p:nvPr/>
        </p:nvPicPr>
        <p:blipFill>
          <a:blip r:embed="rId31"/>
          <a:stretch/>
        </p:blipFill>
        <p:spPr>
          <a:xfrm>
            <a:off x="4857840" y="3500280"/>
            <a:ext cx="714240" cy="100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bobyleva\Рабочий стол\открытый урок информатика и русс яз\энтик1.gif"/>
          <p:cNvPicPr/>
          <p:nvPr/>
        </p:nvPicPr>
        <p:blipFill>
          <a:blip r:embed="rId32"/>
          <a:stretch/>
        </p:blipFill>
        <p:spPr>
          <a:xfrm>
            <a:off x="-214200" y="5214960"/>
            <a:ext cx="1785960" cy="18399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2" descr=""/>
          <p:cNvPicPr/>
          <p:nvPr/>
        </p:nvPicPr>
        <p:blipFill>
          <a:blip r:embed="rId33"/>
          <a:stretch/>
        </p:blipFill>
        <p:spPr>
          <a:xfrm>
            <a:off x="3071880" y="5937120"/>
            <a:ext cx="2798640" cy="93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34"/>
          <a:stretch/>
        </p:blipFill>
        <p:spPr>
          <a:xfrm>
            <a:off x="7792920" y="4429080"/>
            <a:ext cx="1351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1" descr=""/>
          <p:cNvPicPr/>
          <p:nvPr/>
        </p:nvPicPr>
        <p:blipFill>
          <a:blip r:embed="rId1"/>
          <a:stretch/>
        </p:blipFill>
        <p:spPr>
          <a:xfrm>
            <a:off x="1427040" y="1427040"/>
            <a:ext cx="6620040" cy="828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2" descr=""/>
          <p:cNvPicPr/>
          <p:nvPr/>
        </p:nvPicPr>
        <p:blipFill>
          <a:blip r:embed="rId2"/>
          <a:stretch/>
        </p:blipFill>
        <p:spPr>
          <a:xfrm>
            <a:off x="2073240" y="2286000"/>
            <a:ext cx="5407200" cy="92088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омой 3"/>
          <p:cNvSpPr/>
          <p:nvPr/>
        </p:nvSpPr>
        <p:spPr>
          <a:xfrm>
            <a:off x="7858080" y="5857920"/>
            <a:ext cx="714600" cy="57132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13507" y="3837"/>
                </a:moveTo>
                <a:lnTo>
                  <a:pt x="16083" y="6448"/>
                </a:lnTo>
                <a:lnTo>
                  <a:pt x="16083" y="4707"/>
                </a:lnTo>
                <a:lnTo>
                  <a:pt x="17859" y="4707"/>
                </a:lnTo>
                <a:lnTo>
                  <a:pt x="17859" y="8224"/>
                </a:lnTo>
                <a:lnTo>
                  <a:pt x="20470" y="10800"/>
                </a:lnTo>
                <a:lnTo>
                  <a:pt x="18816" y="10800"/>
                </a:lnTo>
                <a:lnTo>
                  <a:pt x="18816" y="17989"/>
                </a:lnTo>
                <a:lnTo>
                  <a:pt x="8198" y="17989"/>
                </a:lnTo>
                <a:lnTo>
                  <a:pt x="8198" y="10800"/>
                </a:lnTo>
                <a:lnTo>
                  <a:pt x="6544" y="10800"/>
                </a:lnTo>
                <a:close/>
              </a:path>
              <a:path fill="darkenLess" w="27014" h="21600">
                <a:moveTo>
                  <a:pt x="16083" y="6448"/>
                </a:moveTo>
                <a:lnTo>
                  <a:pt x="16083" y="4707"/>
                </a:lnTo>
                <a:lnTo>
                  <a:pt x="17859" y="4707"/>
                </a:lnTo>
                <a:lnTo>
                  <a:pt x="17859" y="8224"/>
                </a:lnTo>
                <a:close/>
              </a:path>
              <a:path fill="darkenLess" w="27014" h="21600">
                <a:moveTo>
                  <a:pt x="12584" y="14299"/>
                </a:moveTo>
                <a:lnTo>
                  <a:pt x="14429" y="14299"/>
                </a:lnTo>
                <a:lnTo>
                  <a:pt x="14429" y="17989"/>
                </a:lnTo>
                <a:lnTo>
                  <a:pt x="18816" y="17989"/>
                </a:lnTo>
                <a:lnTo>
                  <a:pt x="18816" y="10800"/>
                </a:lnTo>
                <a:lnTo>
                  <a:pt x="8198" y="10800"/>
                </a:lnTo>
                <a:lnTo>
                  <a:pt x="8198" y="17989"/>
                </a:lnTo>
                <a:lnTo>
                  <a:pt x="1258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4" descr=""/>
          <p:cNvPicPr/>
          <p:nvPr/>
        </p:nvPicPr>
        <p:blipFill>
          <a:blip r:embed="rId3"/>
          <a:stretch/>
        </p:blipFill>
        <p:spPr>
          <a:xfrm>
            <a:off x="1646280" y="3286080"/>
            <a:ext cx="1285920" cy="64620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5" descr=""/>
          <p:cNvPicPr/>
          <p:nvPr/>
        </p:nvPicPr>
        <p:blipFill>
          <a:blip r:embed="rId4"/>
          <a:stretch/>
        </p:blipFill>
        <p:spPr>
          <a:xfrm>
            <a:off x="1646280" y="3932280"/>
            <a:ext cx="1262160" cy="6462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6" descr=""/>
          <p:cNvPicPr/>
          <p:nvPr/>
        </p:nvPicPr>
        <p:blipFill>
          <a:blip r:embed="rId5"/>
          <a:stretch/>
        </p:blipFill>
        <p:spPr>
          <a:xfrm>
            <a:off x="1573200" y="4498920"/>
            <a:ext cx="1822320" cy="6462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7" descr=""/>
          <p:cNvPicPr/>
          <p:nvPr/>
        </p:nvPicPr>
        <p:blipFill>
          <a:blip r:embed="rId6"/>
          <a:stretch/>
        </p:blipFill>
        <p:spPr>
          <a:xfrm>
            <a:off x="4359240" y="3286080"/>
            <a:ext cx="998640" cy="64620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8" descr=""/>
          <p:cNvPicPr/>
          <p:nvPr/>
        </p:nvPicPr>
        <p:blipFill>
          <a:blip r:embed="rId7"/>
          <a:stretch/>
        </p:blipFill>
        <p:spPr>
          <a:xfrm>
            <a:off x="4286160" y="3932280"/>
            <a:ext cx="998640" cy="646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8"/>
          <a:stretch/>
        </p:blipFill>
        <p:spPr>
          <a:xfrm>
            <a:off x="6072120" y="3286080"/>
            <a:ext cx="1417680" cy="30528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0" descr=""/>
          <p:cNvPicPr/>
          <p:nvPr/>
        </p:nvPicPr>
        <p:blipFill>
          <a:blip r:embed="rId9"/>
          <a:stretch/>
        </p:blipFill>
        <p:spPr>
          <a:xfrm>
            <a:off x="4211640" y="4572000"/>
            <a:ext cx="1305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8592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с,  носильщик,  носик, носа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, часок, часть, часовщ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усь, гусыня, гусеница, гуся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веток, цвет, цветное, цветаст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ринка, сорняке, сорвал, насор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иркуль, цирк, цирковой, цирка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428840" y="1785960"/>
            <a:ext cx="4714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6" descr=""/>
          <p:cNvPicPr/>
          <p:nvPr/>
        </p:nvPicPr>
        <p:blipFill>
          <a:blip r:embed="rId1"/>
          <a:stretch/>
        </p:blipFill>
        <p:spPr>
          <a:xfrm>
            <a:off x="2286000" y="212760"/>
            <a:ext cx="5261040" cy="9396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ая соединительная линия 7"/>
          <p:cNvSpPr/>
          <p:nvPr/>
        </p:nvSpPr>
        <p:spPr>
          <a:xfrm>
            <a:off x="2428920" y="2214720"/>
            <a:ext cx="20718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3500280" y="2786040"/>
            <a:ext cx="10717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0"/>
          <p:cNvSpPr/>
          <p:nvPr/>
        </p:nvSpPr>
        <p:spPr>
          <a:xfrm>
            <a:off x="3714840" y="3500280"/>
            <a:ext cx="207144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1"/>
          <p:cNvSpPr/>
          <p:nvPr/>
        </p:nvSpPr>
        <p:spPr>
          <a:xfrm>
            <a:off x="1285920" y="4071960"/>
            <a:ext cx="14288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13"/>
          <p:cNvSpPr/>
          <p:nvPr/>
        </p:nvSpPr>
        <p:spPr>
          <a:xfrm>
            <a:off x="5000760" y="4786200"/>
            <a:ext cx="142848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5"/>
          <p:cNvSpPr/>
          <p:nvPr/>
        </p:nvSpPr>
        <p:spPr>
          <a:xfrm>
            <a:off x="1285920" y="5500800"/>
            <a:ext cx="16430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домой 17"/>
          <p:cNvSpPr/>
          <p:nvPr/>
        </p:nvSpPr>
        <p:spPr>
          <a:xfrm>
            <a:off x="800100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де приставка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где предлог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14720" y="171468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Вставьте пропущенные букв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Раскройте скобки и объясните слитное и раздельное написание слов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Составьте словосочетания, взяв  1слово из лево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олбика, а 2 слово из второго столбика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C:\Documents and Settings\bobyleva\Рабочий стол\открытый урок информатика и русс яз\энтик1.gif"/>
          <p:cNvPicPr/>
          <p:nvPr/>
        </p:nvPicPr>
        <p:blipFill>
          <a:blip r:embed="rId1"/>
          <a:stretch/>
        </p:blipFill>
        <p:spPr>
          <a:xfrm>
            <a:off x="0" y="3571920"/>
            <a:ext cx="2992320" cy="308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2"/>
          <a:stretch/>
        </p:blipFill>
        <p:spPr>
          <a:xfrm>
            <a:off x="7358040" y="214200"/>
            <a:ext cx="1417680" cy="3052800"/>
          </a:xfrm>
          <a:prstGeom prst="rect">
            <a:avLst/>
          </a:prstGeom>
          <a:ln w="0">
            <a:noFill/>
          </a:ln>
        </p:spPr>
      </p:pic>
      <p:sp>
        <p:nvSpPr>
          <p:cNvPr id="181" name="Управляющая кнопка: домой 6"/>
          <p:cNvSpPr/>
          <p:nvPr/>
        </p:nvSpPr>
        <p:spPr>
          <a:xfrm>
            <a:off x="7643880" y="5715000"/>
            <a:ext cx="785880" cy="57168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9688" h="21600">
                <a:moveTo>
                  <a:pt x="0" y="0"/>
                </a:moveTo>
                <a:lnTo>
                  <a:pt x="29688" y="0"/>
                </a:lnTo>
                <a:lnTo>
                  <a:pt x="29688" y="21600"/>
                </a:lnTo>
                <a:lnTo>
                  <a:pt x="0" y="21600"/>
                </a:lnTo>
                <a:close/>
              </a:path>
              <a:path fill="lightenLess" w="29688" h="21600">
                <a:moveTo>
                  <a:pt x="0" y="0"/>
                </a:moveTo>
                <a:lnTo>
                  <a:pt x="29688" y="0"/>
                </a:lnTo>
                <a:lnTo>
                  <a:pt x="28288" y="1400"/>
                </a:lnTo>
                <a:lnTo>
                  <a:pt x="1400" y="1400"/>
                </a:lnTo>
                <a:close/>
              </a:path>
              <a:path fill="darken" w="29688" h="21600">
                <a:moveTo>
                  <a:pt x="29688" y="0"/>
                </a:moveTo>
                <a:lnTo>
                  <a:pt x="29688" y="21600"/>
                </a:lnTo>
                <a:lnTo>
                  <a:pt x="28288" y="20200"/>
                </a:lnTo>
                <a:lnTo>
                  <a:pt x="28288" y="1400"/>
                </a:lnTo>
                <a:close/>
              </a:path>
              <a:path fill="darkenLess" w="29688" h="21600">
                <a:moveTo>
                  <a:pt x="29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88" y="20200"/>
                </a:lnTo>
                <a:close/>
              </a:path>
              <a:path fill="lighten" w="29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88" h="21600">
                <a:moveTo>
                  <a:pt x="14844" y="3837"/>
                </a:moveTo>
                <a:lnTo>
                  <a:pt x="17420" y="6448"/>
                </a:lnTo>
                <a:lnTo>
                  <a:pt x="17420" y="4707"/>
                </a:lnTo>
                <a:lnTo>
                  <a:pt x="19196" y="4707"/>
                </a:lnTo>
                <a:lnTo>
                  <a:pt x="19196" y="8224"/>
                </a:lnTo>
                <a:lnTo>
                  <a:pt x="21807" y="10800"/>
                </a:lnTo>
                <a:lnTo>
                  <a:pt x="20153" y="10800"/>
                </a:lnTo>
                <a:lnTo>
                  <a:pt x="20153" y="17989"/>
                </a:lnTo>
                <a:lnTo>
                  <a:pt x="9535" y="17989"/>
                </a:lnTo>
                <a:lnTo>
                  <a:pt x="9535" y="10800"/>
                </a:lnTo>
                <a:lnTo>
                  <a:pt x="7881" y="10800"/>
                </a:lnTo>
                <a:close/>
              </a:path>
              <a:path fill="darkenLess" w="29688" h="21600">
                <a:moveTo>
                  <a:pt x="17420" y="6448"/>
                </a:moveTo>
                <a:lnTo>
                  <a:pt x="17420" y="4707"/>
                </a:lnTo>
                <a:lnTo>
                  <a:pt x="19196" y="4707"/>
                </a:lnTo>
                <a:lnTo>
                  <a:pt x="19196" y="8224"/>
                </a:lnTo>
                <a:close/>
              </a:path>
              <a:path fill="darkenLess" w="29688" h="21600">
                <a:moveTo>
                  <a:pt x="13921" y="14299"/>
                </a:moveTo>
                <a:lnTo>
                  <a:pt x="15767" y="14299"/>
                </a:lnTo>
                <a:lnTo>
                  <a:pt x="15767" y="17989"/>
                </a:lnTo>
                <a:lnTo>
                  <a:pt x="20153" y="17989"/>
                </a:lnTo>
                <a:lnTo>
                  <a:pt x="20153" y="10800"/>
                </a:lnTo>
                <a:lnTo>
                  <a:pt x="9535" y="10800"/>
                </a:lnTo>
                <a:lnTo>
                  <a:pt x="9535" y="17989"/>
                </a:lnTo>
                <a:lnTo>
                  <a:pt x="1392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Группа 4"/>
          <p:cNvGrpSpPr/>
          <p:nvPr/>
        </p:nvGrpSpPr>
        <p:grpSpPr>
          <a:xfrm>
            <a:off x="1500120" y="1428840"/>
            <a:ext cx="2143080" cy="357120"/>
            <a:chOff x="1500120" y="1428840"/>
            <a:chExt cx="2143080" cy="357120"/>
          </a:xfrm>
        </p:grpSpPr>
        <p:grpSp>
          <p:nvGrpSpPr>
            <p:cNvPr id="183" name="Группа 39"/>
            <p:cNvGrpSpPr/>
            <p:nvPr/>
          </p:nvGrpSpPr>
          <p:grpSpPr>
            <a:xfrm>
              <a:off x="1500120" y="1428840"/>
              <a:ext cx="1143000" cy="214920"/>
              <a:chOff x="1500120" y="1428840"/>
              <a:chExt cx="1143000" cy="214920"/>
            </a:xfrm>
          </p:grpSpPr>
          <p:grpSp>
            <p:nvGrpSpPr>
              <p:cNvPr id="184" name="Группа 12"/>
              <p:cNvGrpSpPr/>
              <p:nvPr/>
            </p:nvGrpSpPr>
            <p:grpSpPr>
              <a:xfrm>
                <a:off x="1500120" y="1429200"/>
                <a:ext cx="500040" cy="214560"/>
                <a:chOff x="1500120" y="1429200"/>
                <a:chExt cx="500040" cy="214560"/>
              </a:xfrm>
            </p:grpSpPr>
            <p:sp>
              <p:nvSpPr>
                <p:cNvPr id="185" name="Прямая соединительная линия 2"/>
                <p:cNvSpPr/>
                <p:nvPr/>
              </p:nvSpPr>
              <p:spPr>
                <a:xfrm>
                  <a:off x="1500120" y="1429200"/>
                  <a:ext cx="498600" cy="1440"/>
                </a:xfrm>
                <a:prstGeom prst="line">
                  <a:avLst/>
                </a:prstGeom>
                <a:ln w="507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Прямая соединительная линия 3"/>
                <p:cNvSpPr/>
                <p:nvPr/>
              </p:nvSpPr>
              <p:spPr>
                <a:xfrm flipH="1">
                  <a:off x="1998720" y="1429200"/>
                  <a:ext cx="1440" cy="2145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Арка 16"/>
              <p:cNvSpPr/>
              <p:nvPr/>
            </p:nvSpPr>
            <p:spPr>
              <a:xfrm>
                <a:off x="2143080" y="1428840"/>
                <a:ext cx="500040" cy="214560"/>
              </a:xfrm>
              <a:custGeom>
                <a:avLst/>
                <a:gdLst/>
                <a:ahLst/>
                <a:rect l="l" t="t" r="r" b="b"/>
                <a:pathLst>
                  <a:path w="500067" h="214314">
                    <a:moveTo>
                      <a:pt x="0" y="107157"/>
                    </a:moveTo>
                    <a:cubicBezTo>
                      <a:pt x="0" y="47976"/>
                      <a:pt x="111944" y="0"/>
                      <a:pt x="250034" y="0"/>
                    </a:cubicBezTo>
                    <a:cubicBezTo>
                      <a:pt x="388124" y="0"/>
                      <a:pt x="500068" y="47976"/>
                      <a:pt x="500068" y="107157"/>
                    </a:cubicBezTo>
                    <a:lnTo>
                      <a:pt x="446489" y="107157"/>
                    </a:lnTo>
                    <a:cubicBezTo>
                      <a:pt x="446489" y="77566"/>
                      <a:pt x="358533" y="53578"/>
                      <a:pt x="250034" y="53578"/>
                    </a:cubicBezTo>
                    <a:cubicBezTo>
                      <a:pt x="141535" y="53578"/>
                      <a:pt x="53579" y="77566"/>
                      <a:pt x="53579" y="107157"/>
                    </a:cubicBezTo>
                    <a:lnTo>
                      <a:pt x="0" y="107157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Группа 21"/>
            <p:cNvGrpSpPr/>
            <p:nvPr/>
          </p:nvGrpSpPr>
          <p:grpSpPr>
            <a:xfrm>
              <a:off x="2786040" y="1428840"/>
              <a:ext cx="357120" cy="142920"/>
              <a:chOff x="2786040" y="1428840"/>
              <a:chExt cx="357120" cy="142920"/>
            </a:xfrm>
          </p:grpSpPr>
          <p:sp>
            <p:nvSpPr>
              <p:cNvPr id="189" name="Прямая соединительная линия 6"/>
              <p:cNvSpPr/>
              <p:nvPr/>
            </p:nvSpPr>
            <p:spPr>
              <a:xfrm flipH="1">
                <a:off x="2786040" y="1428840"/>
                <a:ext cx="192240" cy="142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Прямая соединительная линия 14"/>
              <p:cNvSpPr/>
              <p:nvPr/>
            </p:nvSpPr>
            <p:spPr>
              <a:xfrm>
                <a:off x="2978280" y="1428840"/>
                <a:ext cx="164880" cy="142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Прямоугольник 7"/>
            <p:cNvSpPr/>
            <p:nvPr/>
          </p:nvSpPr>
          <p:spPr>
            <a:xfrm>
              <a:off x="3286080" y="1428840"/>
              <a:ext cx="357120" cy="2858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Группа 18"/>
            <p:cNvGrpSpPr/>
            <p:nvPr/>
          </p:nvGrpSpPr>
          <p:grpSpPr>
            <a:xfrm>
              <a:off x="1571400" y="1643040"/>
              <a:ext cx="1571760" cy="142920"/>
              <a:chOff x="1571400" y="1643040"/>
              <a:chExt cx="1571760" cy="142920"/>
            </a:xfrm>
          </p:grpSpPr>
          <p:grpSp>
            <p:nvGrpSpPr>
              <p:cNvPr id="193" name="Группа 17"/>
              <p:cNvGrpSpPr/>
              <p:nvPr/>
            </p:nvGrpSpPr>
            <p:grpSpPr>
              <a:xfrm>
                <a:off x="1572480" y="1643040"/>
                <a:ext cx="1570680" cy="142920"/>
                <a:chOff x="1572480" y="1643040"/>
                <a:chExt cx="1570680" cy="142920"/>
              </a:xfrm>
            </p:grpSpPr>
            <p:sp>
              <p:nvSpPr>
                <p:cNvPr id="194" name="Прямая соединительная линия 11"/>
                <p:cNvSpPr/>
                <p:nvPr/>
              </p:nvSpPr>
              <p:spPr>
                <a:xfrm>
                  <a:off x="1572480" y="1785960"/>
                  <a:ext cx="1570680" cy="0"/>
                </a:xfrm>
                <a:prstGeom prst="line">
                  <a:avLst/>
                </a:prstGeom>
                <a:ln w="507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Прямая соединительная линия 12"/>
                <p:cNvSpPr/>
                <p:nvPr/>
              </p:nvSpPr>
              <p:spPr>
                <a:xfrm flipH="1">
                  <a:off x="3141720" y="1643040"/>
                  <a:ext cx="1440" cy="142920"/>
                </a:xfrm>
                <a:prstGeom prst="line">
                  <a:avLst/>
                </a:prstGeom>
                <a:ln w="381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Прямая соединительная линия 10"/>
              <p:cNvSpPr/>
              <p:nvPr/>
            </p:nvSpPr>
            <p:spPr>
              <a:xfrm flipH="1">
                <a:off x="1571400" y="1643040"/>
                <a:ext cx="2880" cy="14292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Группа 20"/>
          <p:cNvGrpSpPr/>
          <p:nvPr/>
        </p:nvGrpSpPr>
        <p:grpSpPr>
          <a:xfrm>
            <a:off x="5572080" y="1428840"/>
            <a:ext cx="1928880" cy="357120"/>
            <a:chOff x="5572080" y="1428840"/>
            <a:chExt cx="1928880" cy="357120"/>
          </a:xfrm>
        </p:grpSpPr>
        <p:sp>
          <p:nvSpPr>
            <p:cNvPr id="198" name="Прямоугольник 21"/>
            <p:cNvSpPr/>
            <p:nvPr/>
          </p:nvSpPr>
          <p:spPr>
            <a:xfrm>
              <a:off x="7143840" y="1500120"/>
              <a:ext cx="357120" cy="2858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41"/>
            <p:cNvGrpSpPr/>
            <p:nvPr/>
          </p:nvGrpSpPr>
          <p:grpSpPr>
            <a:xfrm>
              <a:off x="5572080" y="1428840"/>
              <a:ext cx="1428840" cy="357120"/>
              <a:chOff x="5572080" y="1428840"/>
              <a:chExt cx="1428840" cy="357120"/>
            </a:xfrm>
          </p:grpSpPr>
          <p:grpSp>
            <p:nvGrpSpPr>
              <p:cNvPr id="200" name="Группа 19"/>
              <p:cNvGrpSpPr/>
              <p:nvPr/>
            </p:nvGrpSpPr>
            <p:grpSpPr>
              <a:xfrm>
                <a:off x="5572080" y="1571760"/>
                <a:ext cx="1428840" cy="214200"/>
                <a:chOff x="5572080" y="1571760"/>
                <a:chExt cx="1428840" cy="214200"/>
              </a:xfrm>
            </p:grpSpPr>
            <p:grpSp>
              <p:nvGrpSpPr>
                <p:cNvPr id="201" name="Группа 17"/>
                <p:cNvGrpSpPr/>
                <p:nvPr/>
              </p:nvGrpSpPr>
              <p:grpSpPr>
                <a:xfrm>
                  <a:off x="5573160" y="1571760"/>
                  <a:ext cx="1427760" cy="214200"/>
                  <a:chOff x="5573160" y="1571760"/>
                  <a:chExt cx="1427760" cy="214200"/>
                </a:xfrm>
              </p:grpSpPr>
              <p:sp>
                <p:nvSpPr>
                  <p:cNvPr id="202" name="Прямая соединительная линия 30"/>
                  <p:cNvSpPr/>
                  <p:nvPr/>
                </p:nvSpPr>
                <p:spPr>
                  <a:xfrm>
                    <a:off x="5573160" y="1784520"/>
                    <a:ext cx="1427760" cy="1440"/>
                  </a:xfrm>
                  <a:prstGeom prst="line">
                    <a:avLst/>
                  </a:prstGeom>
                  <a:ln w="507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рямая соединительная линия 31"/>
                  <p:cNvSpPr/>
                  <p:nvPr/>
                </p:nvSpPr>
                <p:spPr>
                  <a:xfrm flipH="1">
                    <a:off x="6999480" y="1571760"/>
                    <a:ext cx="1440" cy="214200"/>
                  </a:xfrm>
                  <a:prstGeom prst="line">
                    <a:avLst/>
                  </a:prstGeom>
                  <a:ln w="381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Прямая соединительная линия 29"/>
                <p:cNvSpPr/>
                <p:nvPr/>
              </p:nvSpPr>
              <p:spPr>
                <a:xfrm flipH="1">
                  <a:off x="5572080" y="1571760"/>
                  <a:ext cx="2880" cy="214200"/>
                </a:xfrm>
                <a:prstGeom prst="line">
                  <a:avLst/>
                </a:prstGeom>
                <a:ln w="5076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Арка 24"/>
              <p:cNvSpPr/>
              <p:nvPr/>
            </p:nvSpPr>
            <p:spPr>
              <a:xfrm>
                <a:off x="5715000" y="1428840"/>
                <a:ext cx="500040" cy="214200"/>
              </a:xfrm>
              <a:custGeom>
                <a:avLst/>
                <a:gdLst/>
                <a:ahLst/>
                <a:rect l="l" t="t" r="r" b="b"/>
                <a:pathLst>
                  <a:path w="500067" h="214314">
                    <a:moveTo>
                      <a:pt x="0" y="107157"/>
                    </a:moveTo>
                    <a:cubicBezTo>
                      <a:pt x="0" y="47976"/>
                      <a:pt x="111944" y="0"/>
                      <a:pt x="250034" y="0"/>
                    </a:cubicBezTo>
                    <a:cubicBezTo>
                      <a:pt x="388124" y="0"/>
                      <a:pt x="500068" y="47976"/>
                      <a:pt x="500068" y="107157"/>
                    </a:cubicBezTo>
                    <a:lnTo>
                      <a:pt x="446489" y="107157"/>
                    </a:lnTo>
                    <a:cubicBezTo>
                      <a:pt x="446489" y="77566"/>
                      <a:pt x="358533" y="53578"/>
                      <a:pt x="250034" y="53578"/>
                    </a:cubicBezTo>
                    <a:cubicBezTo>
                      <a:pt x="141535" y="53578"/>
                      <a:pt x="53579" y="77566"/>
                      <a:pt x="53579" y="107157"/>
                    </a:cubicBezTo>
                    <a:lnTo>
                      <a:pt x="0" y="107157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Группа 21"/>
              <p:cNvGrpSpPr/>
              <p:nvPr/>
            </p:nvGrpSpPr>
            <p:grpSpPr>
              <a:xfrm>
                <a:off x="6429240" y="1428840"/>
                <a:ext cx="357120" cy="142920"/>
                <a:chOff x="6429240" y="1428840"/>
                <a:chExt cx="357120" cy="142920"/>
              </a:xfrm>
            </p:grpSpPr>
            <p:sp>
              <p:nvSpPr>
                <p:cNvPr id="207" name="Прямая соединительная линия 26"/>
                <p:cNvSpPr/>
                <p:nvPr/>
              </p:nvSpPr>
              <p:spPr>
                <a:xfrm flipH="1">
                  <a:off x="6429240" y="1428840"/>
                  <a:ext cx="192240" cy="1429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Прямая соединительная линия 27"/>
                <p:cNvSpPr/>
                <p:nvPr/>
              </p:nvSpPr>
              <p:spPr>
                <a:xfrm>
                  <a:off x="6621480" y="1428840"/>
                  <a:ext cx="164880" cy="14292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9" name="Picture 15" descr="C:\Documents and Settings\bobyleva\Рабочий стол\открытый урок информатика и русс яз\перемещайка1.gif"/>
          <p:cNvPicPr/>
          <p:nvPr/>
        </p:nvPicPr>
        <p:blipFill>
          <a:blip r:embed="rId1"/>
          <a:stretch/>
        </p:blipFill>
        <p:spPr>
          <a:xfrm>
            <a:off x="7143840" y="3429000"/>
            <a:ext cx="1160280" cy="250020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33"/>
          <p:cNvSpPr/>
          <p:nvPr/>
        </p:nvSpPr>
        <p:spPr>
          <a:xfrm>
            <a:off x="835812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2"/>
          <p:cNvSpPr/>
          <p:nvPr/>
        </p:nvSpPr>
        <p:spPr>
          <a:xfrm>
            <a:off x="4508280" y="47862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4"/>
          <p:cNvSpPr/>
          <p:nvPr/>
        </p:nvSpPr>
        <p:spPr>
          <a:xfrm>
            <a:off x="5721480" y="392904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5"/>
          <p:cNvSpPr/>
          <p:nvPr/>
        </p:nvSpPr>
        <p:spPr>
          <a:xfrm>
            <a:off x="5362200" y="53578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6"/>
          <p:cNvSpPr/>
          <p:nvPr/>
        </p:nvSpPr>
        <p:spPr>
          <a:xfrm>
            <a:off x="646200" y="471492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7"/>
          <p:cNvSpPr/>
          <p:nvPr/>
        </p:nvSpPr>
        <p:spPr>
          <a:xfrm>
            <a:off x="2647440" y="392904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8"/>
          <p:cNvSpPr/>
          <p:nvPr/>
        </p:nvSpPr>
        <p:spPr>
          <a:xfrm>
            <a:off x="505800" y="392904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9"/>
          <p:cNvSpPr/>
          <p:nvPr/>
        </p:nvSpPr>
        <p:spPr>
          <a:xfrm>
            <a:off x="4008600" y="39290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0"/>
          <p:cNvSpPr/>
          <p:nvPr/>
        </p:nvSpPr>
        <p:spPr>
          <a:xfrm>
            <a:off x="2284200" y="4714920"/>
            <a:ext cx="21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1"/>
          <p:cNvSpPr/>
          <p:nvPr/>
        </p:nvSpPr>
        <p:spPr>
          <a:xfrm>
            <a:off x="3573000" y="542916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2"/>
          <p:cNvSpPr/>
          <p:nvPr/>
        </p:nvSpPr>
        <p:spPr>
          <a:xfrm>
            <a:off x="1927440" y="535788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ё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0.12622 -0.31505 E">
                                      <p:cBhvr>
                                        <p:cTn id="40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5.18519E-006 L 0.30712 -0.3044 E">
                                      <p:cBhvr>
                                        <p:cTn id="40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25018 -0.23102 E">
                                      <p:cBhvr>
                                        <p:cTn id="41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0.00261 -0.23102 E">
                                      <p:cBhvr>
                                        <p:cTn id="41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9259E-006 L 0.58455 -0.28264 E">
                                      <p:cBhvr>
                                        <p:cTn id="42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L -0.33281 -0.26157 E">
                                      <p:cBhvr>
                                        <p:cTn id="42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0.42084 -0.30278 E">
                                      <p:cBhvr>
                                        <p:cTn id="43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1 0.02107 L 0.21216 -0.21875 E">
                                      <p:cBhvr>
                                        <p:cTn id="43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46875 -0.28194 E">
                                      <p:cBhvr>
                                        <p:cTn id="44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17:30Z</dcterms:created>
  <dc:creator>Андрей</dc:creator>
  <dc:description/>
  <dc:language>en-US</dc:language>
  <cp:lastModifiedBy>Sergey Krivel</cp:lastModifiedBy>
  <dcterms:modified xsi:type="dcterms:W3CDTF">2025-01-18T17:37:05Z</dcterms:modified>
  <cp:revision>119</cp:revision>
  <dc:subject/>
  <dc:title>Слайд 1</dc:title>
</cp:coreProperties>
</file>